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A24-68B3-4A7D-B071-EE2EA50B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329-7FDC-4FC2-9AC2-6A32236C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BAB-FBD9-429D-8D66-C09695EA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46A-1C8D-4E3A-98E2-72AFD318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1A0-380E-4E7B-822F-84E189B6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B37-F427-4249-B8CE-63B9460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26E-F392-4280-AF32-E6545D34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01FC-2688-4D46-8603-E641523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B92-F761-4665-A253-E9A7071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10F1-3355-44B8-9F65-53DF2A8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D45C-DB8F-4F16-BDC4-B1A21FD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3F8-C46B-4A57-926D-CC8EE78F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0C7-C987-45A1-86B1-AB98CF2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3A0-C2DC-49C4-BE8A-E083E4C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2A2A-1083-45F7-9624-B96EEF6E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1AF-8D02-4799-AB39-380A0652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133-9273-49C5-B086-06451C7F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158-CD83-48EB-8B1D-C5E8C5B1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1C6-0780-4F0F-90DC-3FCB8184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8BF-5EFA-4B55-9694-6622186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24A-B850-4E30-9DAC-C2CCAFC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522-25E1-4C68-A971-F489BE6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78D-FBAE-4196-A3DB-CE8FDB5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BC9-3DAC-4141-A266-53A9EF3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6D94-F3C7-426B-A752-68A75E59F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B53-2608-4968-A7F5-5DFF3DACC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31640" y="333360"/>
            <a:ext cx="2644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Matsys coll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46083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ynnwch bedair mats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dael pedwar triong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falochrog o’r un m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69960" y="724320"/>
            <a:ext cx="3144960" cy="5064480"/>
            <a:chOff x="5169960" y="724320"/>
            <a:chExt cx="3144960" cy="5064480"/>
          </a:xfrm>
        </p:grpSpPr>
        <p:grpSp>
          <p:nvGrpSpPr>
            <p:cNvPr id="101" name=""/>
            <p:cNvGrpSpPr/>
            <p:nvPr/>
          </p:nvGrpSpPr>
          <p:grpSpPr>
            <a:xfrm>
              <a:off x="5992560" y="724320"/>
              <a:ext cx="1499400" cy="1240560"/>
              <a:chOff x="5992560" y="724320"/>
              <a:chExt cx="1499400" cy="124056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6665040" y="724320"/>
                <a:ext cx="696600" cy="1018440"/>
                <a:chOff x="6665040" y="724320"/>
                <a:chExt cx="696600" cy="1018440"/>
              </a:xfrm>
            </p:grpSpPr>
            <p:sp>
              <p:nvSpPr>
                <p:cNvPr id="103" name=""/>
                <p:cNvSpPr/>
                <p:nvPr/>
              </p:nvSpPr>
              <p:spPr>
                <a:xfrm rot="14298000">
                  <a:off x="6661440" y="131796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4298000">
                  <a:off x="6678000" y="80316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6258240" y="1789200"/>
                <a:ext cx="1233720" cy="175680"/>
                <a:chOff x="6258240" y="1789200"/>
                <a:chExt cx="1233720" cy="175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258240" y="184788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67240" y="178920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992560" y="887040"/>
                <a:ext cx="669240" cy="1033200"/>
                <a:chOff x="5992560" y="887040"/>
                <a:chExt cx="669240" cy="1033200"/>
              </a:xfrm>
            </p:grpSpPr>
            <p:sp>
              <p:nvSpPr>
                <p:cNvPr id="109" name=""/>
                <p:cNvSpPr/>
                <p:nvPr/>
              </p:nvSpPr>
              <p:spPr>
                <a:xfrm rot="7194600">
                  <a:off x="5972760" y="125280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7194600">
                  <a:off x="6003000" y="164664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5169960" y="1958400"/>
              <a:ext cx="1499400" cy="1240560"/>
              <a:chOff x="5169960" y="1958400"/>
              <a:chExt cx="1499400" cy="12405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842440" y="1958400"/>
                <a:ext cx="696600" cy="1018440"/>
                <a:chOff x="5842440" y="1958400"/>
                <a:chExt cx="696600" cy="1018440"/>
              </a:xfrm>
            </p:grpSpPr>
            <p:sp>
              <p:nvSpPr>
                <p:cNvPr id="113" name=""/>
                <p:cNvSpPr/>
                <p:nvPr/>
              </p:nvSpPr>
              <p:spPr>
                <a:xfrm rot="14298000">
                  <a:off x="5838840" y="255204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4298000">
                  <a:off x="5855400" y="203724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435640" y="3023280"/>
                <a:ext cx="1233720" cy="175680"/>
                <a:chOff x="5435640" y="3023280"/>
                <a:chExt cx="1233720" cy="17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435640" y="308196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44640" y="302328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169960" y="2121120"/>
                <a:ext cx="669240" cy="1033200"/>
                <a:chOff x="5169960" y="2121120"/>
                <a:chExt cx="669240" cy="1033200"/>
              </a:xfrm>
            </p:grpSpPr>
            <p:sp>
              <p:nvSpPr>
                <p:cNvPr id="119" name=""/>
                <p:cNvSpPr/>
                <p:nvPr/>
              </p:nvSpPr>
              <p:spPr>
                <a:xfrm rot="7194600">
                  <a:off x="5150160" y="248688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7194600">
                  <a:off x="5180400" y="288072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6815520" y="1958400"/>
              <a:ext cx="1499400" cy="1240560"/>
              <a:chOff x="6815520" y="1958400"/>
              <a:chExt cx="1499400" cy="12405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7488000" y="1958400"/>
                <a:ext cx="696600" cy="1018440"/>
                <a:chOff x="7488000" y="1958400"/>
                <a:chExt cx="696600" cy="1018440"/>
              </a:xfrm>
            </p:grpSpPr>
            <p:sp>
              <p:nvSpPr>
                <p:cNvPr id="123" name=""/>
                <p:cNvSpPr/>
                <p:nvPr/>
              </p:nvSpPr>
              <p:spPr>
                <a:xfrm rot="14298000">
                  <a:off x="7484400" y="255204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4298000">
                  <a:off x="7500960" y="203724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081200" y="3023280"/>
                <a:ext cx="1233720" cy="175680"/>
                <a:chOff x="7081200" y="3023280"/>
                <a:chExt cx="1233720" cy="17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081200" y="308196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90200" y="302328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815520" y="2121120"/>
                <a:ext cx="669240" cy="1033200"/>
                <a:chOff x="6815520" y="2121120"/>
                <a:chExt cx="669240" cy="1033200"/>
              </a:xfrm>
            </p:grpSpPr>
            <p:sp>
              <p:nvSpPr>
                <p:cNvPr id="129" name=""/>
                <p:cNvSpPr/>
                <p:nvPr/>
              </p:nvSpPr>
              <p:spPr>
                <a:xfrm rot="7194600">
                  <a:off x="6795720" y="248688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7194600">
                  <a:off x="6825960" y="288072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5212800" y="3100320"/>
              <a:ext cx="754200" cy="1116720"/>
              <a:chOff x="5212800" y="3100320"/>
              <a:chExt cx="754200" cy="1116720"/>
            </a:xfrm>
          </p:grpSpPr>
          <p:sp>
            <p:nvSpPr>
              <p:cNvPr id="132" name=""/>
              <p:cNvSpPr/>
              <p:nvPr/>
            </p:nvSpPr>
            <p:spPr>
              <a:xfrm flipH="1" rot="3503400">
                <a:off x="5197320" y="3754080"/>
                <a:ext cx="974160" cy="630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3503400">
                <a:off x="5215680" y="3193200"/>
                <a:ext cx="324720" cy="1893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965560" y="3296880"/>
              <a:ext cx="687240" cy="1119240"/>
              <a:chOff x="5965560" y="3296880"/>
              <a:chExt cx="687240" cy="1119240"/>
            </a:xfrm>
          </p:grpSpPr>
          <p:sp>
            <p:nvSpPr>
              <p:cNvPr id="135" name=""/>
              <p:cNvSpPr/>
              <p:nvPr/>
            </p:nvSpPr>
            <p:spPr>
              <a:xfrm flipH="1" rot="17908800">
                <a:off x="5922720" y="3697200"/>
                <a:ext cx="949680" cy="648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7908800">
                <a:off x="5968080" y="4132800"/>
                <a:ext cx="316440" cy="1947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036480" y="4455000"/>
              <a:ext cx="1493640" cy="1333800"/>
              <a:chOff x="6036480" y="4455000"/>
              <a:chExt cx="1493640" cy="13338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326640" y="4455000"/>
                <a:ext cx="1203480" cy="195120"/>
                <a:chOff x="6326640" y="4455000"/>
                <a:chExt cx="1203480" cy="1951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rot="10805400">
                  <a:off x="6325920" y="4519800"/>
                  <a:ext cx="9500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10805400">
                  <a:off x="7212600" y="4455000"/>
                  <a:ext cx="31680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036480" y="4472280"/>
                <a:ext cx="754200" cy="1116360"/>
                <a:chOff x="6036480" y="4472280"/>
                <a:chExt cx="754200" cy="111636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rot="3503400">
                  <a:off x="6021000" y="5125680"/>
                  <a:ext cx="974160" cy="630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3503400">
                  <a:off x="6039360" y="4565160"/>
                  <a:ext cx="324720" cy="1893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789600" y="4669200"/>
                <a:ext cx="687240" cy="1119600"/>
                <a:chOff x="6789600" y="4669200"/>
                <a:chExt cx="687240" cy="1119600"/>
              </a:xfrm>
            </p:grpSpPr>
            <p:sp>
              <p:nvSpPr>
                <p:cNvPr id="145" name=""/>
                <p:cNvSpPr/>
                <p:nvPr/>
              </p:nvSpPr>
              <p:spPr>
                <a:xfrm flipH="1" rot="17908800">
                  <a:off x="6746400" y="5069880"/>
                  <a:ext cx="950040" cy="6444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rot="17908800">
                  <a:off x="6792120" y="5505480"/>
                  <a:ext cx="3171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6721560" y="3100320"/>
              <a:ext cx="754200" cy="1116720"/>
              <a:chOff x="6721560" y="3100320"/>
              <a:chExt cx="754200" cy="1116720"/>
            </a:xfrm>
          </p:grpSpPr>
          <p:sp>
            <p:nvSpPr>
              <p:cNvPr id="148" name=""/>
              <p:cNvSpPr/>
              <p:nvPr/>
            </p:nvSpPr>
            <p:spPr>
              <a:xfrm flipH="1" rot="3503400">
                <a:off x="6706080" y="3754080"/>
                <a:ext cx="974160" cy="630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3503400">
                <a:off x="6724440" y="3193200"/>
                <a:ext cx="324720" cy="1893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473960" y="3296880"/>
              <a:ext cx="687240" cy="1119240"/>
              <a:chOff x="7473960" y="3296880"/>
              <a:chExt cx="687240" cy="1119240"/>
            </a:xfrm>
          </p:grpSpPr>
          <p:sp>
            <p:nvSpPr>
              <p:cNvPr id="151" name=""/>
              <p:cNvSpPr/>
              <p:nvPr/>
            </p:nvSpPr>
            <p:spPr>
              <a:xfrm flipH="1" rot="17908800">
                <a:off x="7431120" y="3697200"/>
                <a:ext cx="949680" cy="648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17908800">
                <a:off x="7476480" y="4132800"/>
                <a:ext cx="316440" cy="1947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6:00Z</dcterms:created>
  <dc:creator>Carwyn</dc:creator>
  <dc:description/>
  <dc:language>en-US</dc:language>
  <cp:lastModifiedBy>Carwyn</cp:lastModifiedBy>
  <dcterms:modified xsi:type="dcterms:W3CDTF">2008-12-07T19:47:46Z</dcterms:modified>
  <cp:revision>1</cp:revision>
  <dc:subject/>
  <dc:title>Matsys coll</dc:title>
</cp:coreProperties>
</file>